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2843-536F-48AF-9EF7-893C3D2D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BB3D-1B2F-4E26-AFCB-BF679697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4A98-CCFF-43AC-A09A-CBEAE2CD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6194-3064-4D3F-9840-5EDFFD90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3CC-7345-4B6A-9787-7EDB4C6C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C82A-C458-44C2-9137-2CA2ED90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7BA0-C807-474A-ABFB-68BD184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E024-2DFC-4550-BBD3-B8C53499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1D50-C3BB-47A6-AB45-36396028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77A9-5168-44A7-B9B3-89ED62A4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17C9-013D-40E9-8877-5F2ECF90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39F9-DFF6-4029-AB1B-89528379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00B0-93EC-416D-BE83-97904C7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BEB1-A66F-4651-90E5-7626C0B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E7D5-A628-427B-B142-2C32FBCC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CEC4-8742-4B06-A418-137ABDD8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26F7-C7CD-4247-8E03-40617A0E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0D9D-DD8D-4C4A-BAA6-232AF650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D857-9F12-4182-B7ED-FD8D28C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66F7-14FE-4DBE-9AA1-59C4F11A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5468-1071-484C-89A7-33C96077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F3BF-30F4-4987-98C3-9751857C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01CF-09F2-40F3-AAA4-96114745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1302-2AEB-445F-8ED6-6142DB9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3C1-6455-491E-B5D2-DFD6755BF2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FDF7-973F-4129-923E-D596E2D94E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476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сковкин В.М., Посохова О.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06064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одологический инструментарий для количественной оценки макроэкономического состояния стран и внешнеторговых взаимодействий одной страны с группой стран на примере стран Средиземноморья и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620640"/>
          <a:ext cx="8785440" cy="6647040"/>
        </p:xfrm>
        <a:graphic>
          <a:graphicData uri="http://schemas.openxmlformats.org/drawingml/2006/table">
            <a:tbl>
              <a:tblPr/>
              <a:tblGrid>
                <a:gridCol w="1728720"/>
                <a:gridCol w="1368720"/>
                <a:gridCol w="1942920"/>
                <a:gridCol w="1728720"/>
                <a:gridCol w="2016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 Средиземномор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лицы стран Средиземномор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чайшие расстояния от Москвы до столиц стран Средиземноморья, к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морские порты стран Средиземномор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стояние от Новороссийска до основных морских портов стран Средиземноморья, к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б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ра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рре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е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ф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р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гип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т-Саи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и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ерусали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ль-Ави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дри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ен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п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масо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в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йр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йр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по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по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ь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лет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лет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окк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абла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бия  и Черног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гра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ма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жаб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я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ни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ни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ни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а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и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с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ва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е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ли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0" y="1148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Исходные географические данны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Исходные экономические данны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504720"/>
          <a:ext cx="8604000" cy="6352920"/>
        </p:xfrm>
        <a:graphic>
          <a:graphicData uri="http://schemas.openxmlformats.org/drawingml/2006/table">
            <a:tbl>
              <a:tblPr/>
              <a:tblGrid>
                <a:gridCol w="2016000"/>
                <a:gridCol w="2496960"/>
                <a:gridCol w="2219400"/>
                <a:gridCol w="1871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 Средиземномор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ВП по паритету покупательной способности, млрд. долл. США, 2004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ВП по официальному обменному курс, млрд.  долл. США, 2006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еторговый оборот (Т), млн.долл. США, 2004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б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4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13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, 7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2,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4,32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6, 4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е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7,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039, 6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гип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6,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,38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8,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и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,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003, 4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7,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25,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625, 1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9, 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52,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111, 4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2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714, 8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в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8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62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7, 6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,4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33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, 0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ь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2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9, 1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окк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,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5, 7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бия  и Черног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2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59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4, 4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,4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50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5, 1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,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,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0, 4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ни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,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62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5, 9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2,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772, 1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31,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153, 9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ва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,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1, 0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9,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арианты расчетов с помощью метода наименьших квадратов (МНК)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кратчайшие расстояния от Москвы до столиц стран Средиземноморья, км; ВВП бралось по паритету покупательной способности в млрд. долл. США на 2004 год; внешнеторговый оборот брался  в тыс. долл. США на 2004 год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тоже, что и в варианте 1, ВВП бралось по официальному обменному курсу в млрд. долл. США на 2006 год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расстояния от Новороссийска до основных портов стран Средиземноморья, км; ВВП бралось как и в варианте 1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тоже, что и в варианте 3, ВВП – тоже, что и в варианте 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600" y="188640"/>
            <a:ext cx="89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четные коэффициенты по гравитационной моде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6920" y="1125360"/>
          <a:ext cx="7490160" cy="4548240"/>
        </p:xfrm>
        <a:graphic>
          <a:graphicData uri="http://schemas.openxmlformats.org/drawingml/2006/table">
            <a:tbl>
              <a:tblPr/>
              <a:tblGrid>
                <a:gridCol w="1783080"/>
                <a:gridCol w="1069920"/>
                <a:gridCol w="1382760"/>
                <a:gridCol w="2184120"/>
                <a:gridCol w="107028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de-DE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4.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(1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5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(1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2105310.0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(1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6890.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181345.2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(1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37293.1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(15), взв. МН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4.3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4592520" y="147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9280" y="-54000"/>
          <a:ext cx="8496360" cy="57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-54000"/>
                    <a:ext cx="849636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34080" y="5175720"/>
            <a:ext cx="8893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йная корреляционная зависимость между расчетным (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19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и фактическим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</a:t>
            </a:r>
            <a:r>
              <a:rPr b="0" lang="ru-RU" sz="19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внешнеторговым оборотом России со странами Арабо-Европейского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земноморья (вариант 3, взв. МНК, без учета Кипра и Италии),тыс. долл. США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6920" y="2205000"/>
            <a:ext cx="777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4360" y="333360"/>
          <a:ext cx="8208720" cy="5992920"/>
        </p:xfrm>
        <a:graphic>
          <a:graphicData uri="http://schemas.openxmlformats.org/drawingml/2006/table">
            <a:tbl>
              <a:tblPr/>
              <a:tblGrid>
                <a:gridCol w="1511280"/>
                <a:gridCol w="2520720"/>
                <a:gridCol w="1656000"/>
                <a:gridCol w="2520720"/>
              </a:tblGrid>
              <a:tr h="179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ра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ВП на душу населения по паритету покупательной способности, долл. СШ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200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ра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ВП на душу населения по паритету покупательной способности, долл. СШ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200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Алб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Маль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8 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Алж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Марок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 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Гре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1 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ербия  и Черного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Егип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 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и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Израи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0 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лов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Исп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3 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Туни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7 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Тур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Кип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греческая зона 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20300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турецкая зона 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7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8 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Лив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Хорва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1 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Ли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 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 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2920" y="476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епень открытости экономик, % (200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1268280"/>
            <a:ext cx="29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ДЕ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ения - 8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льта - 75,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вия - 69,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УТСАЙДЕ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ипет - 7,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я - 15,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бания - 16,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Классификация внешнеторгового потенциала стран Средиземноморья и России (2006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1533600" y="2027160"/>
            <a:ext cx="17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33600" y="2027160"/>
            <a:ext cx="17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33600" y="2027160"/>
            <a:ext cx="17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628640"/>
          <a:ext cx="7772400" cy="4826160"/>
        </p:xfrm>
        <a:graphic>
          <a:graphicData uri="http://schemas.openxmlformats.org/drawingml/2006/table">
            <a:tbl>
              <a:tblPr/>
              <a:tblGrid>
                <a:gridCol w="2446200"/>
                <a:gridCol w="2376720"/>
                <a:gridCol w="2949480"/>
              </a:tblGrid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орядок внешнеторговог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оборота, тыс. долл. 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Уровень внешнеторговог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отенц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Франция, Италия, Испания, Турция, Ро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Израиль, Алжир, Словения, Греция, Марокко, Тунис, Хорватия, Сирия, Египет, Сербия и Черногория, Ливан, Ли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Албания, Мальта, Ки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53880" y="474840"/>
            <a:ext cx="6997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Классификация экономик </a:t>
            </a: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Всемирного банка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стран Средиземноморья</a:t>
            </a:r>
            <a:r>
              <a:rPr b="1" lang="ru-RU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и России, апрель 2007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700280"/>
          <a:ext cx="8497800" cy="4405320"/>
        </p:xfrm>
        <a:graphic>
          <a:graphicData uri="http://schemas.openxmlformats.org/drawingml/2006/table">
            <a:tbl>
              <a:tblPr/>
              <a:tblGrid>
                <a:gridCol w="3327480"/>
                <a:gridCol w="2262240"/>
                <a:gridCol w="2908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ороговые значения валового национального дохода на душу населения, долл. 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Тип экономики стр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траны Средиземноморья и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Меньше или равно 8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изкодохо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т 876 до 3 465 включит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доходом ниже средн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Албания, Алжир, Египет, Марокко, Сирия, Тунис, Сербия и Черног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т 3 466 до 10 725 включит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доходом выше средн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Хорватия, Ливан, Ливия, Турция, Ро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Больше или равно 10 7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ысокодохо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Кипр, Франция, Греция, Израиль, Италия, Мальта, Словения, Исп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549360"/>
            <a:ext cx="813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ипизация структуры ВВП по базовым секторам экономики (по данным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actbook-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005)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700280"/>
            <a:ext cx="7920000" cy="20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доля сельскохозяйственного сектора во всей экономике стран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доля промышленного сектора во всей экономике стран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доля сектора услуг во всей экономике стра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10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78936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- Греция, Египет, Израиль, Испания, Италия, Кипр, Ливан, Мальта, Марокко, Сербия и Черногория, Сирия, Словения, Тунис, Турция, Франция, Хорватия, Росс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S&lt;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жир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Лив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gt; I≈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Алб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624720" cy="388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87640" y="458136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овень реального роста ВВП в процентах (2005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55280" y="981000"/>
            <a:ext cx="11559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ВП на душу населения по паритету покупательной способности в долл. США (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54364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ALB – Албания, DZA – Алжир, GRC – Греция, EGY – Египет, ISR – Израиль, ESP – Испания, ITA – Италия, - CYP(g) - Кипр (греческая зона), CYP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 -  Кипр (турецкая зона), LBN – Ливан, LBY – Ливия, MLT – Мальта, MAR – Марокко, YUG - Сербия  и Черногория, SYR – Сирия, SVN – Словения, TUN – Тунис, TUR – Турция, FRA – Франция, HRV – Хорватия, RUS – Росс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602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агностическая диаграмма макроэкономического состояния стран Средиземноморья и Росс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5440" y="5083920"/>
            <a:ext cx="747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ровень реального роста ВВП в процентах (2004)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803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Гравитационная модель внешнеторговых взаимодействий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де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константы (параметры модели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ВП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валовый внутренний продукт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расстояни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внешнеторговый оборо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84360" y="1700280"/>
                <a:ext cx="4392720" cy="18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ВВП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t</cp:lastModifiedBy>
  <dcterms:modified xsi:type="dcterms:W3CDTF">2007-12-20T10:31:16Z</dcterms:modified>
  <cp:revision>6</cp:revision>
  <dc:subject/>
  <dc:title>Заголовок слайда отсутствует</dc:title>
</cp:coreProperties>
</file>