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C6ECD-15DB-43A5-924D-A0834DA6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0DBA9-C03E-43B0-9D14-F8139473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75539-D7DA-43A1-8125-940958FC5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01A5A-D54F-439A-A249-D6AEC62E8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E91A-C62C-44CD-8F9C-CB49D8FFA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404E-44C4-4AD1-A252-9784CD12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02D9-974E-4E93-9EFB-FCECC6DF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2AA2-7C8A-4B7D-BABD-6409B9A9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F067-6D91-42D0-9CC6-E4ED7017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449A-C42C-4588-B097-B71CE26A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4370-576A-4C33-B27C-B131A9B4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AA12C-86DD-457C-B2D2-9C7B1472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18A2-3F14-4570-B589-99309BC3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F2D9-6CBC-47E3-A643-D3298012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4F96-E31D-43C8-9312-572294D7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A3BA-23F1-4260-89D5-007EAC8E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E333-AEA1-477C-B665-BFF7627D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651FB-CB81-459A-A2BC-057C6981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7F6F0-AB02-49CB-A39F-DF92419A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FBD6B-32B5-4606-8BDF-D4D5128B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11B01-B462-47F9-AB9B-A58AB384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CEBFC-1FEA-4FA2-B63D-3569DAD1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8AB1A-11E2-480F-96C2-5F30E349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A05D7-38DB-413E-8233-B7B52058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5D1E-8ADD-485B-942E-4D1411D136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0C2B-F656-4E5F-970F-518C739F51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Миссия кафедры мировой экономики Белгородского государственного университе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работчик – д.г.н., профессор кафедры мировой экономики БелГУ Московкин В.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Руководство кафедры мировой экономики БелГУ берёт на себя обязательства и несёт ответственность за создание условий, необходимых для достижения своих стратегических целей и реализации соответствующих политик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реамбул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0920" y="1413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Garamond"/>
              </a:rPr>
              <a:t>Кафедра мировой экономики БелГУ позиционирует себя как ведущая кафедра по данному направлению в Центральной России, опирающаяся в своей деятельности, в рамках концепции «треугольника знаний» и трех университетских компетенций, на интеграцию процессов фундаментальной подготовки специалистов, проведения продвинутых научных исследований, коммерциализации их результатов и инноваций, и использующая для этого новейший методологический инструментарий – систему качества образования, креативный и инновационный менеджмент, кластерный и междисциплинарный подходы, онлайновые инструменты, мировые базы данных и математические методы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иссия кафедры мировой экономики БелГУ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остоит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в выпуске широкообразованных, фундаментально подготовленных, креативно мыслящих, конкурентоспособных и хорошо адаптированных, к постоянно изменяющимся условиям, специалистов;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в проведении конкурентоспособных научных исследований по широкому спектру направлений мировой, региональной, инновационной и математической экономики, продвижении их результатов на постсоветский и мировой рынки научных публикаций и интеграции своей деятельности в мировые сети научных исследований;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в коммерциализации результатов научных исследований в виде разработки и внедрения различных организационно-экономических и инновационных механизмов, стратегий, политик, программ, проектов и методологических инструментов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5e5ff"/>
                </a:solidFill>
                <a:latin typeface="Garamond"/>
              </a:rPr>
              <a:t>Учебно-воспитательные и образовательные стратегические цели и политики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оздание кафедральных условий для гармоничного развития личности будущего специалиста (культурно-просветительская и спортивно-оздоровительная работа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рганизация процесса качественной и фундаментальной подготовки будущих специалистов на основе креативных, инновационных, кластерных и междисциплинарных подходов, с использованием современных информационно-коммуникационных технологий и математических методов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развитие кафедральной системы профориентации и набора  студентов, в условиях ожидаемой «демографической ямы» и снижения качественного уровня обучения в средней школе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развитие кафедральной системы повышения квалификации и переподготовки кадров, в условиях постоянной изменчивости и обновления знаний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ланирование новых перспективных направлений подготовки специалистов на основе отслеживания тенденций развития научно-технического прогресса и экономики, в условиях глобализации и информационного взрыв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Научно-исследовательские стратегические цели и политик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повышение конкурентоспособности кафедральных научных исследований на основе использования современного методологического инструментария, адекватной эмпирической базы и информационной поддержки научных исследований;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открытие онлайнового доступа для мировой научной общественности к результатам конкурентоспособных научных исследований кафедры;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интеграция кафедры в международные научные платформы и сети;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активное участие кафедры в процессах международной академической мобильности;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повышение привлекательности кафедры для магистерской и аспирантской подготовки граждан из дальнего зарубежья на основе мощной научно-исследовательской базы и англоязычной подготовки;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Цели и политики в области коммерциализации научных исследований и инноваций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89647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активное участие кафедры в процессе научного обеспечения федеральных и региональных стратегий и политик в области международных экономических отношений, внешнеэкономического сотрудничества, трансграничной кооперации, инновационного и регионального развития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активное участие кафедры в конструировании региональных и трансграничных инновационных кластеров, региональной инновационной системы на базе интерактивного процесса взаимного обучения, организованного в рамках функционирования онлайнового инновационного портала Белгородской области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активное участие кафедры в процессе выращивания малого наукоёмкого бизнеса через университетский бизнес-инкубатор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Цели и политики в области коммерциализации научных исследований и инноваций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89647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здание междисциплинарных смешанных студенческо-преподавательских команд для реализации конкретных проектов, включая разработки мультимедийных образовательных и научно-методологических электронных ресурсов, бизнес-планов и др.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ктивное участие кафедры в развитии коммуникационной инфраструктуры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Коммуникационная инфраструктур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нлайновый инновационный портал Белгородской област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кафедральный сайт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международный научно-практический журнал «Проблемы экономики и управления»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остоянно-действующий российско-украинский семинар по продвинутым научным исследованиям и инновационным технологиям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остоянно-действующий научно-методологический семинар «Методология социально-экономических исследований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e5ff"/>
                </a:solidFill>
                <a:latin typeface="Garamond"/>
              </a:rPr>
              <a:t>Ценности кафедры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туденты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спиранты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офессорско-преподавательский состав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спомогательный персонал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работодатели, научные и социальные партнёры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учные школы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овременные образовательные и инновационные технологи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мидж кафедры и её открытость внешнему миру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13:54:08Z</dcterms:created>
  <dc:creator>dept</dc:creator>
  <dc:description/>
  <dc:language>en-US</dc:language>
  <cp:lastModifiedBy>dept</cp:lastModifiedBy>
  <dcterms:modified xsi:type="dcterms:W3CDTF">2007-12-20T14:58:44Z</dcterms:modified>
  <cp:revision>6</cp:revision>
  <dc:subject/>
  <dc:title>Миссия кафедры мировой экономики Белгородского государственного университета</dc:title>
</cp:coreProperties>
</file>