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4E756-B3C9-4DD0-A81A-6AEA8EDC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8FAF5-544B-4D9D-B11E-A2AEE09D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C277D-7EF5-41E5-BC4A-EB321494F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CF209-23C2-4420-B1F9-EA45F8717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2266-192D-4F2A-B70B-5776E2FD3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8D75-BD9B-475E-93D8-5B747BF8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DA65-7982-431B-BC85-4225A389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DFEC-3FC2-4C44-BECE-E214EEB7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A7B6-3863-41BB-B7F1-F3AE3077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33A8-8672-4F87-B347-D066F693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0BCF-8043-499D-8E1E-D82295DD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458F5-7F01-451F-B841-8C88DBBC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FFA8-9496-4CBE-830C-88FF20D2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43AB-DF27-47FC-BA3A-DB6B7BF6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815E-9782-48A9-A409-C01BA119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57F4-D910-481C-BB33-67AAEEFB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A67F-D1D4-4A7A-9225-F5F263968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C0CC9-835D-49DB-9782-00A0ADC4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D02AE-2BED-45C5-B332-0188965F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22B56-4006-4A80-A6EA-AF1049C9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758F7-9585-4149-9DF3-F198F2B3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9C64C-E989-459D-A391-64CB91C7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B8B0E-205F-4C2A-B383-AD5BE324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085F7-B3FB-435E-9447-563DE908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B2A6-8062-4B37-B479-CE23801003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15E1-7CF7-459F-9F6B-FBC6E3F95B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e5e5ff"/>
                </a:solidFill>
                <a:uFillTx/>
                <a:latin typeface="Garamond"/>
              </a:rPr>
              <a:t>Концепция университетских кластеров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работчик – д.г.н., профессор кафедры мировой экономики БелГУ Московкин В.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544464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514"/>
                </a:solidFill>
                <a:latin typeface="Garamond"/>
              </a:rPr>
              <a:t>ВП</a:t>
            </a:r>
            <a:r>
              <a:rPr b="0" lang="en-US" sz="1500" spc="-1" strike="noStrike">
                <a:solidFill>
                  <a:srgbClr val="000514"/>
                </a:solidFill>
                <a:latin typeface="Garamond"/>
              </a:rPr>
              <a:t>i</a:t>
            </a:r>
            <a:r>
              <a:rPr b="0" lang="ru-RU" sz="1500" spc="-1" strike="noStrike">
                <a:solidFill>
                  <a:srgbClr val="000514"/>
                </a:solidFill>
                <a:latin typeface="Garamond"/>
              </a:rPr>
              <a:t> – </a:t>
            </a:r>
            <a:r>
              <a:rPr b="0" lang="en-US" sz="1500" spc="-1" strike="noStrike">
                <a:solidFill>
                  <a:srgbClr val="000514"/>
                </a:solidFill>
                <a:latin typeface="Garamond"/>
              </a:rPr>
              <a:t>i</a:t>
            </a:r>
            <a:r>
              <a:rPr b="0" lang="ru-RU" sz="1500" spc="-1" strike="noStrike">
                <a:solidFill>
                  <a:srgbClr val="000514"/>
                </a:solidFill>
                <a:latin typeface="Garamond"/>
              </a:rPr>
              <a:t>-ый внешний партнёр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514"/>
                </a:solidFill>
                <a:latin typeface="Garamond"/>
              </a:rPr>
              <a:t>Кафедра </a:t>
            </a:r>
            <a:r>
              <a:rPr b="0" lang="en-US" sz="1500" spc="-1" strike="noStrike">
                <a:solidFill>
                  <a:srgbClr val="000514"/>
                </a:solidFill>
                <a:latin typeface="Garamond"/>
              </a:rPr>
              <a:t>i</a:t>
            </a:r>
            <a:r>
              <a:rPr b="0" lang="ru-RU" sz="1500" spc="-1" strike="noStrike">
                <a:solidFill>
                  <a:srgbClr val="000514"/>
                </a:solidFill>
                <a:latin typeface="Garamond"/>
              </a:rPr>
              <a:t> – </a:t>
            </a:r>
            <a:r>
              <a:rPr b="0" lang="en-US" sz="1500" spc="-1" strike="noStrike">
                <a:solidFill>
                  <a:srgbClr val="000514"/>
                </a:solidFill>
                <a:latin typeface="Garamond"/>
              </a:rPr>
              <a:t>i</a:t>
            </a:r>
            <a:r>
              <a:rPr b="0" lang="ru-RU" sz="1500" spc="-1" strike="noStrike">
                <a:solidFill>
                  <a:srgbClr val="000514"/>
                </a:solidFill>
                <a:latin typeface="Garamond"/>
              </a:rPr>
              <a:t>-ая кафедра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514"/>
                </a:solidFill>
                <a:latin typeface="Garamond"/>
              </a:rPr>
              <a:t>Количество взаимодействий между кафедрами равно </a:t>
            </a:r>
            <a:r>
              <a:rPr b="0" lang="en-US" sz="1500" spc="-1" strike="noStrike">
                <a:solidFill>
                  <a:srgbClr val="000514"/>
                </a:solidFill>
                <a:latin typeface="Garamond"/>
              </a:rPr>
              <a:t>m(m-1)/2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514"/>
                </a:solidFill>
                <a:latin typeface="Garamond"/>
              </a:rPr>
              <a:t>Количество взаимодействий между внешними партнёрами равно </a:t>
            </a:r>
            <a:r>
              <a:rPr b="0" lang="en-US" sz="1500" spc="-1" strike="noStrike">
                <a:solidFill>
                  <a:srgbClr val="000514"/>
                </a:solidFill>
                <a:latin typeface="Garamond"/>
              </a:rPr>
              <a:t>n(n-1)/2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514"/>
                </a:solidFill>
                <a:latin typeface="Garamond"/>
              </a:rPr>
              <a:t>количество взаимодействий между кафедрами и внешними партнёрами равно </a:t>
            </a:r>
            <a:r>
              <a:rPr b="0" lang="en-US" sz="1500" spc="-1" strike="noStrike">
                <a:solidFill>
                  <a:srgbClr val="000514"/>
                </a:solidFill>
                <a:latin typeface="Garamond"/>
              </a:rPr>
              <a:t>mn</a:t>
            </a:r>
            <a:r>
              <a:rPr b="0" lang="ru-RU" sz="15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514"/>
                </a:solidFill>
                <a:latin typeface="Garamond"/>
              </a:rPr>
              <a:t>Общее количество взаимодействий равно </a:t>
            </a:r>
            <a:r>
              <a:rPr b="0" lang="en-US" sz="1500" spc="-1" strike="noStrike">
                <a:solidFill>
                  <a:srgbClr val="000514"/>
                </a:solidFill>
                <a:latin typeface="Garamond"/>
              </a:rPr>
              <a:t>m(m-1)/2</a:t>
            </a:r>
            <a:r>
              <a:rPr b="0" lang="ru-RU" sz="1500" spc="-1" strike="noStrike">
                <a:solidFill>
                  <a:srgbClr val="000514"/>
                </a:solidFill>
                <a:latin typeface="Garamond"/>
              </a:rPr>
              <a:t>+</a:t>
            </a:r>
            <a:r>
              <a:rPr b="0" lang="en-US" sz="1500" spc="-1" strike="noStrike">
                <a:solidFill>
                  <a:srgbClr val="000514"/>
                </a:solidFill>
                <a:latin typeface="Garamond"/>
              </a:rPr>
              <a:t>n(n-1)/2</a:t>
            </a:r>
            <a:r>
              <a:rPr b="0" lang="ru-RU" sz="1500" spc="-1" strike="noStrike">
                <a:solidFill>
                  <a:srgbClr val="000514"/>
                </a:solidFill>
                <a:latin typeface="Garamond"/>
              </a:rPr>
              <a:t>+</a:t>
            </a:r>
            <a:r>
              <a:rPr b="0" lang="en-US" sz="1500" spc="-1" strike="noStrike">
                <a:solidFill>
                  <a:srgbClr val="000514"/>
                </a:solidFill>
                <a:latin typeface="Garamond"/>
              </a:rPr>
              <a:t>mn</a:t>
            </a:r>
            <a:r>
              <a:rPr b="0" lang="ru-RU" sz="15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Схема взаимодействий в межкафедральном кластере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95636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Факультетский кластер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ластерная инициатива исходит от факульте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се остальные определения, понятия и кластерная схема взаимодействий аналогичны определениям, понятиям и кластерной схеме взаимодействий кафедрального кластер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Факультет активно вовлекает в кластерную деятельность все свои кафедры и научные подразделения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Межфакультетский кластер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ластерная инициатива исходит от группы факультет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се остальные определения, понятия и кластерная схема взаимодействий аналогичны определениям, понятиям и кластерной схеме взаимодействий межкафедрального кластер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Университетский кластер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just">
              <a:lnSpc>
                <a:spcPct val="9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Garamond"/>
              </a:rPr>
              <a:t>Кластерная инициатива исходит от университета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 algn="just">
              <a:lnSpc>
                <a:spcPct val="9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Garamond"/>
              </a:rPr>
              <a:t>Определение: Способ организации согласованных взаимодействий внутри университета и его внешними партнёрами в сферах основных его компетенций, развивающих взаимосвязи нерыночной и рыночной природы, делающих вклад в инновации, собственную конкурентоспособность и конкурентоспособность своего региона за счёт получения синергии от совместной деятельности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 algn="just">
              <a:lnSpc>
                <a:spcPct val="9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Garamond"/>
              </a:rPr>
              <a:t>Все остальные понятия, и схема аналогичны понятиям и схеме кластеров кафедрального или факультетского уровня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 algn="just">
              <a:lnSpc>
                <a:spcPct val="9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Garamond"/>
              </a:rPr>
              <a:t>Примером такого кластера является реализация БелГУ интегрированного проекта, выполняемого в рамках Национального инновационного образовательного проекта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Межуниверситетский кластер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686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Кластерная инициатива исходит от группы университетов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just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Определение: Способ организации согласованных взаимодействий между избранными университетами и их внешними партнерами в сферах основных их компетенций, развивающих взаимосвязи нерыночной и рыночной природы, делающих вклад в инновации, собственную конкурентоспособность и конкурентоспособность соответствующих территорий за счёт получения синергии от совместной деятельности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just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Ярким примером такого кластера является деятельность Белорусско – Российско – Украинского приграничного университетского консорциума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Кафедральный кластер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0920" y="1413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Определение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Способ организации согласованных взаимодействий внутри кафедры, между кафедрой и её факультетским и университетским окружением, а также внешними партнёрами в сферах основных её компетенций, развивающих взаимосвязи нерыночной и рыночной природы, с целью получения синергетического эффекта от совместной деятельности (при работе над конкретными интегрированными проектам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Кафедральные компетенц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подготовка специалистов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научные исследования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коммерциализация результатов научных исследований и инновационная деятельность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5e5ff"/>
                </a:solidFill>
                <a:latin typeface="Garamond"/>
              </a:rPr>
              <a:t>Дополнительные понятия кафедрального кластера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Кластерная инициатив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исходит от конкретной выпускающей кафедр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Ядро кластер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– конкретная выпускающая кафедр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Аналог Совета кластера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– совет, состоящий из руководства кафедры, ведущих её учёных, представителей факультетской и университетской администрации, а также их представителей всех внешних партнёров, участвующих в реализации интегрированных проект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Аналог кластерных совещаний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– научно-методологический или проектный семинар, организуемый вышеуказанным советом, на котором планируются перспективные проекты или обсуждается ход реализации текущих проектов, и в котором участвуют все партнёры вовлечённые в совместную деятельност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римеры интегрированных проект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Интегрированный проект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проект, выполнение которого требует использование всех трёх кафедральных компетенций и который нацелен на конечный внедренческий результа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дготовка специалистов для конкретного предприятия с одновременной разработкой инвестиционного проекта, который позволит создать новые рабочие места для вышеуказанных специалистов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вместная работа студентов и преподавателей кафедры над созданием мультимедийных учебно-методических комплексов, учебных пособий и обучающих программ, их презентации и согласования с заказчиками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260280"/>
            <a:ext cx="9144000" cy="5473800"/>
            <a:chOff x="0" y="260280"/>
            <a:chExt cx="9144000" cy="547380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rcRect l="0" t="6909" r="7578" b="10363"/>
            <a:stretch/>
          </p:blipFill>
          <p:spPr>
            <a:xfrm>
              <a:off x="0" y="260280"/>
              <a:ext cx="9144000" cy="547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" name=""/>
            <p:cNvGrpSpPr/>
            <p:nvPr/>
          </p:nvGrpSpPr>
          <p:grpSpPr>
            <a:xfrm>
              <a:off x="2197440" y="1388880"/>
              <a:ext cx="5496480" cy="3182400"/>
              <a:chOff x="2197440" y="1388880"/>
              <a:chExt cx="5496480" cy="3182400"/>
            </a:xfrm>
          </p:grpSpPr>
          <p:sp>
            <p:nvSpPr>
              <p:cNvPr id="113" name=""/>
              <p:cNvSpPr/>
              <p:nvPr/>
            </p:nvSpPr>
            <p:spPr>
              <a:xfrm>
                <a:off x="2197440" y="1388880"/>
                <a:ext cx="2015640" cy="150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5678640" y="1388880"/>
                <a:ext cx="2015280" cy="16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2197440" y="3231360"/>
                <a:ext cx="2198520" cy="133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495400" y="3231360"/>
                <a:ext cx="2198520" cy="133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5589360"/>
            <a:ext cx="91440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514"/>
                </a:solidFill>
                <a:latin typeface="Garamond"/>
              </a:rPr>
              <a:t>ВП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i</a:t>
            </a:r>
            <a:r>
              <a:rPr b="0" lang="ru-RU" sz="1800" spc="-1" strike="noStrike">
                <a:solidFill>
                  <a:srgbClr val="000514"/>
                </a:solidFill>
                <a:latin typeface="Garamond"/>
              </a:rPr>
              <a:t> – 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i</a:t>
            </a:r>
            <a:r>
              <a:rPr b="0" lang="ru-RU" sz="1800" spc="-1" strike="noStrike">
                <a:solidFill>
                  <a:srgbClr val="000514"/>
                </a:solidFill>
                <a:latin typeface="Garamond"/>
              </a:rPr>
              <a:t>-ый внешний партнёр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514"/>
                </a:solidFill>
                <a:latin typeface="Garamond"/>
              </a:rPr>
              <a:t>Количество взаимодействий кафедры с внешними партнёрами равно 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514"/>
                </a:solidFill>
                <a:latin typeface="Garamond"/>
              </a:rPr>
              <a:t>Количество взаимодействий между внешними партнёрами равно 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n</a:t>
            </a:r>
            <a:r>
              <a:rPr b="0" lang="ru-RU" sz="1800" spc="-1" strike="noStrike">
                <a:solidFill>
                  <a:srgbClr val="000514"/>
                </a:solidFill>
                <a:latin typeface="Garamond"/>
              </a:rPr>
              <a:t>(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n</a:t>
            </a:r>
            <a:r>
              <a:rPr b="0" lang="ru-RU" sz="1800" spc="-1" strike="noStrike">
                <a:solidFill>
                  <a:srgbClr val="000514"/>
                </a:solidFill>
                <a:latin typeface="Garamond"/>
              </a:rPr>
              <a:t>-1)/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514"/>
                </a:solidFill>
                <a:latin typeface="Garamond"/>
              </a:rPr>
              <a:t>Общее количество взаимодействий равно 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n(n+1)/2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Схема взаимодействий в кафедральном кластере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Межкафедральный кластер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ределение: Способ организации согласованных взаимодействий между избранными кафедрами, факультетским и университетским окружением и их внешними партнёрами в сферах основных их компетенций, развивающих взаимосвязи нерыночной и рыночной природы, с целью получения синергетического эффекта от совместной деятельности (при работе над конкретными интегрированными проектами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e5e5ff"/>
                </a:solidFill>
                <a:latin typeface="Garamond"/>
              </a:rPr>
              <a:t>Дополнительные понятия межкафедрально кластера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Кластерная инициатива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исходит от группы кафед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Ядра кластер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– избранные кафедр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Аналог Совета кластер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– совет, состоящий из руководства кафедр, представителей факультетских и университетской администраций, а также представителей внешних партнёров, участвующих в реализации интегрированных проект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Аналог кластерных совещаний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– межкафедральный научно-методологический или проектный семинар, организуемый вышеуказанным советом, на котором планируются перспективные проекты или обсуждаются ход реализации текущих проектов, и в котором участвуют все партнёры вовлечённые в совместную деятельност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римеры интегрированных проект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86979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овместная работа студентов и преподавателей разных кафедр над сложным бизнес планом или инвестиционным проектом совместно с заказчиком (внешним партнёром) при поддержке со стороны факультетского и университетского окруж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овместная работа студентов и преподавателей разных кафедр над проектом создания и сопровождения регионального онлайнового инновационного портала, который вовлекает в свою деятельность поставщиков внешней информации и обладателей внешней экспертиз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13:54:08Z</dcterms:created>
  <dc:creator>dept</dc:creator>
  <dc:description/>
  <dc:language>en-US</dc:language>
  <cp:lastModifiedBy>dept</cp:lastModifiedBy>
  <dcterms:modified xsi:type="dcterms:W3CDTF">2007-12-20T09:26:49Z</dcterms:modified>
  <cp:revision>13</cp:revision>
  <dc:subject/>
  <dc:title>Миссия кафедры мировой экономики Белгородского государственного университета</dc:title>
</cp:coreProperties>
</file>