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11717280"/>
            <a:ext cx="360" cy="248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750-0466-47CF-9DC7-726D7525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9B3-E6B9-4375-8CAB-4270AE58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520-71E6-41CE-A2CC-8E351203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FFB-F75D-440C-A677-989CE0A8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5A5-3A88-4445-B17A-6B3B5C21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C2D-F6C6-4034-A6F1-EFDD4D13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13B-050A-4E29-AE21-9657259D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F5A-172D-4F57-B36E-08865B28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6FF-9859-40C7-BB8C-6BBC623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B1A-3DC5-477B-8414-6074CF8A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3AD-0482-4535-91B2-5CEBDE8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592-E4B3-42A1-AD3C-EF26CDB1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874AB-F817-44F7-BC47-D6DCD772B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fa.gov.by/rus/index.php?d=policy/intpact&amp;id=2" TargetMode="External"/><Relationship Id="rId2" Type="http://schemas.openxmlformats.org/officeDocument/2006/relationships/hyperlink" Target="http://library.bsu.edu.ru/Resourse/Biobibl/Moskovkin.files/&#1052;&#1072;&#1090;&#1088;&#1080;&#1095;&#1085;&#1086;-&#1072;&#1085;&#1072;&#1083;&#1080;&#1090;&#1080;&#1095;&#1077;&#1089;&#1082;&#1080;&#1081;%20&#1080;&#1085;&#1089;&#1090;&#1088;&#1091;&#1084;&#1077;&#1085;&#1090;&#1072;&#1088;&#1080;&#1081;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79640" y="539640"/>
            <a:ext cx="7200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Московкин В.М., Ситникова А.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351080"/>
            <a:ext cx="8460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Матрично-аналитическая процедура внешнеэкономического бенчмаркинга договорно-правовой базы двусторонних внешнеэкономических связей на примере ведущих стран СНГ и стран Среднего Востока и Северной Афр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Таблица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атрица развития ДПБ ДВЭС Украины со странами MENA на конец 2006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914400"/>
          <a:ext cx="861048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57400" y="152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чания к табл.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914400"/>
          <a:ext cx="8686800" cy="35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686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Таблица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атрица развития ДПБ ДВЭС Белоруссии со странами MENA на конец 2006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066680"/>
          <a:ext cx="86868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57400" y="152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чания к табл.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990720"/>
          <a:ext cx="868680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0" y="163440"/>
            <a:ext cx="522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Матричный 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5440" y="64245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8880" y="1306440"/>
            <a:ext cx="83282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равнительный анализ таблиц 2 - 4 показывает, что сопоставимая часть ДПБ ДВЭС Украины со странами MENA развита лучше, чем у России и Белоруссии (Украина опережает Россию на 5 договоров, а Белоруссию – на 6), хотя, в целом, с учетом всех специфических типов договоров (в табл. 2 - 4 не показаны), Россия опережает Украину на 15 договоров, а Белоруссию – на 26 догово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Охват стран базовыми соглашениями меньше всего у Белоруссии – с восьми странами такие соглашения отсутствуют (табл. 5). Лучшее положение по этому показателю у Росс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2286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Таблица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оличество базовых внешнеэкономических договоров России, Украины и Белоруссии со странами M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1143000"/>
          <a:ext cx="586728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143000"/>
                    <a:ext cx="58672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9120" y="163440"/>
            <a:ext cx="5878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Матричный 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98880" y="146988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2320" y="1306440"/>
            <a:ext cx="8164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се три страны СНГ имеют хорошо развитую ДПБ ДВЭС с Израилем, Сирией и Турцией. Украина и Белоруссия хорошо развили ДПБ ДВЭС с крупными средневосточными странами (Турция, Иран) и со странами Машрика (Египет, Сирия, Иордания, Ливан). Россия несколько отстает в развитии ДПБ ДВЭС с этими группами стр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Наибольшее количество базовых договоров  Россия заключила в области избежания двойного налогообложения и в области торгово-экономического сотрудничества (табл. 6); Украина и Белоруссия – в области поощрения и взаимной защиты инвестиций и в области торгово-экономического сотрудниче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286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Таблица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оличество базовых внешнеэкономических договоров России, Украины и Белоруссии со странами MENA по типам согла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1600200"/>
          <a:ext cx="830592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3059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49440" y="163440"/>
            <a:ext cx="522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Матричный 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880" y="1208160"/>
            <a:ext cx="816444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Украина, по  сравнению с Россией и Белоруссией, развивает ДПБ ДВЭС со странами MENA  более равномерным образом (минимальный разброс по типам соглашений) (табл.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ольшим недостатком развития ДПБ ДВЭС  рассматриваемых стран является практическое отсутствие типа договоров в сфере труда и трудоустройства. Украина имеет единственный такой договор с Ливией (2003 г.), а Россия и Белоруссия со странами MENA не заключили ни одного такого догов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ассмотрим временную динамику ДПБ ДВЭС России,  Украины и Белоруссии со странами MENA для базовых двусторонних внешнеэкономических договоров. Для этого разобьем рассматриваемый период времени на три пятилетних интервала и на основе таблиц 2 - 4 построим следующую таблицу (табл. 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52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Таблица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ременная динамика ДПБ ДВЭС России, Украины и Белоруссии со странами ME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71600"/>
          <a:ext cx="8458200" cy="30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45820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8880" y="539640"/>
            <a:ext cx="816444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огатые традиции и опыт внешнеэкономических связей между ведущими странами СНГ -  Россией, Украиной и Белоруссией, и странами Среднего Востока и Северной Африки (Middle East and North Africa  MENA), взаимодополняемость их экономик, удобство коммуникаций с этими странами обусловливают необходимость активизации внешнеэкономического сотрудничества между ними, которое пока находится на недостаточно высоком уровне. Индикатором и необходимым элементом активизации этого сотрудничества является развитие договорно-правовой базы двустороннего внешнеэкономического сотрудничества (ДПБ ДВЭС) России, Украины и Белоруссии со странами ME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од этой базой в данном случае мы понимаем, совокупность всех двусторонних внешнеэкономических соглашений между этим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стран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06440" y="163440"/>
            <a:ext cx="6369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79280"/>
            <a:ext cx="84600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ализ временной динамики ДПБ ДВЭС России, Украины и Белоруссии со странами 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268280"/>
            <a:ext cx="7777080" cy="63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аблице 7 нами рассчитан коэффициент степени развитости ядра ДПБ ДВЭС для рассматриваемых стран в каждый период време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нализируя данные таблицы 7, видим, что в 1992-1996 гг. Россия заключила 16 соглашений со странами MENA. Наиболее активно ДПБ ДВЭС России со странами MENA развивалась в период с 1997 по 2001 гг. В этот период Россия заключила 21 соглашение со странами MENA. В 2002 – 2006 гг. темпы развития договорно-правовой базы России значительно снизились по сравнению с предыдущими периодами (в данный промежуток времени Россия заключила всего 6 соглашений по сравнению с 16 в 1992 – 1996 гг. и 21  в 1997 – 2001 гг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краина же, напротив, наиболее быстрыми темпами стала развивать ДПБ ДВЭС в 2002 –2006 гг. В этот период были заключены 24 соглашения, в то время как в 1992 – 1996 гг. – 13 соглашений, а в 1997 – 2001 гг. – всего 10 подобных догово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0360" y="179280"/>
            <a:ext cx="88200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ализ временной динамики ДПБ ДВЭС России, Украины и Белоруссии со странами 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079640"/>
            <a:ext cx="84614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Что касается Белоруссии, то определенный прорыв в заключении соглашений со странами MENA наблюдался в 1997 – 2001 гг.  В этот период было подписано 25 соглашений. В остальные же периоды договорно-правовая база Белоруссии развивалась достаточно низкими темпами ( 8 соглашений в 1992 – 1996 гг. и 9  – в 2002 – 2006 гг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 таблицы 7 видим,  что на начальном этапе развития ДПБ ДВЭС наибольшее значение коэффициента полноты корневой матрицы отмечается для  России (0,15). Значение этого коэффициента для Украины составляло 0,12. Наименьшее его значение наблюдалось для  Белоруссии – всего 0,0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втором этапе значение данного коэффициента для России увеличилось более, чем в 2 раза и составило 0, 34. Этот же коэффициент для Белоруссии за рассматриваемый период возрос более, чем в 4 раза и составил в  0,30. Наименьший рост этого показателя наблюдался для Украины (табл.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6880" y="163440"/>
            <a:ext cx="84916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Анализ временной динамики ДПБ ДВЭС России, Украины и Белоруссии со странами 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6880" y="1781280"/>
            <a:ext cx="8655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 концу 2006 г. значения коэффициента полноты корневой матрицы у России и Белоруссии оказались практически одинаковые (0,39 и 0,38 соответственно). Этот же коэффициент для Украины к концу 2006 г. возрос и составил 0,4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 концу 2006 г. Россия и Белоруссия достигли практически одинаковых абсолютных показателей по количеству заключенных базовых договоров ДВЭС, но имеют еще низкую степень развитости ядра ДПБ ДВЭС. Украина имеет несколько лучший абсолютный показатель и попадает в зону средней степени развитости ядра ДПБ ДВЭС (табл. 1, 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49440" y="163440"/>
            <a:ext cx="440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9720" y="900000"/>
            <a:ext cx="8001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держательный анализ ДПБ ДВЭС  между ведущими странами СНГ и странами MENA показывает, что она  не носит унифицированный характер, так как названия договоров одного типа неидентичны, об этом говорит большой перечень примечаний к построенным нами матриц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пример, в договорах о торгово-экономическом сотрудничестве наблюдается большое разнообразие в их названиях. В основном такие договоры содержат положения об обмене товарами и услугами, возможностях реэкспорта и транзита товаров в третьи страны, принятии мер для выдачи сертификатов, предоставлении режима наибольшего благоприятствования в торговле, своевременном информировании сторон об изменении правил налогообложения экспорта и импорта, таможенных сборов и других обязательных платежей, порядке финансовых расчетов, урегулировании споров, времени вступления в силу и сроке действия соглаш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0" y="163440"/>
            <a:ext cx="4572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720720"/>
            <a:ext cx="84916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метим  что, по-видимому, дальнейшее развитие ДПБ ДВЭС Украины, Белоруссии и России, в первую очередь, будет интенсивно проходить с еще слабо охваченными этим сотрудничеством средиземноморскими странами MENA (страны Магриба, Машрика), с которыми Украина и Россия имеют очень удобные морские коммуникации, а вместе с Белоруссией  и большой прошлый опыт внешнеэкономического сотрудничества. Для Украины и Белоруссии развитие внешнеэкономического сотрудничества со странами Магриба и Машрика особенно актуально, в связи с поиском альтернативных поставщиков энергоносителей (Алжир – сжиженный газ, Ливия и Египет – нефть) и развития соответствующей инфраструктуры (совместные проекты с Турцией), а для России важен весь регион MENA, так как она играла ключевую роль в экономическом и техническом содействии странам этого региона в советском периоде и могла бы более активно участвовать в модернизации ранее построенных при участии СССР объектов и новом капитальном строительств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5320" y="163440"/>
            <a:ext cx="555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Литература и примеч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880" y="4245120"/>
            <a:ext cx="84916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http://www.zakon.rada.gov.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 http://www.consultantplus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mfa.gov.by/rus/index.php?d=policy/intpact&amp;id=2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679320"/>
            <a:ext cx="810108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Московкин В.М., Бригит Юсеф, Тюпа Д.И. Матрично-аналитический инструментарий для изучения развития договорно-правовой базы двухстороннего внешнеэкономического сотрудничества: на примере Украины и стран Среднего Востока и Северной Африки // Актуальнi Проблеми Економiки. – К., 2005. - №11. – С.89 – 93.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ibrary.bsu.edu.ru/Resourse/Biobibl/Moskovkin.files/Матрично-аналитический%20инструментарий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Московкин В.М., Ситникова А.В. Матрица межгосударственной договорно-правовой базы // Экономист. – М., 2007. - №5. – С.52-5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49440" y="163440"/>
            <a:ext cx="408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Метод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8880" y="652320"/>
            <a:ext cx="81644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Для мониторинга и количественной оценки развития ДПБ ДВЭС произвольной страны с некоторой группой стран в работе [1] был разработан соответствующий методологический (матрично-аналитический) инструментарий, который включал в себ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Матрицу развития ДПБ ДВЭС произвольной страны с некоторой группой стран размерности nхm, где n – количество стран в группе, m -  количество типов двухсторонних внешнеэкономических соглашений произвольной страны с некоторой группой стра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 качестве элементов этой матрицы рассматриваются годы заключения вышеуказанных соглашений. В этой матрице выделяется ядро размерности nхm</a:t>
            </a:r>
            <a:r>
              <a:rPr b="0" lang="en-GB" sz="1800" spc="-1" strike="noStrike" baseline="-42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где m</a:t>
            </a:r>
            <a:r>
              <a:rPr b="0" lang="en-GB" sz="1800" spc="-1" strike="noStrike" baseline="-42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– количество типов базовых внешнеэкономических соглашений, без которых невозможно эффективное развитие ДВЭС. Это ядро названо корневой матрицей ДПБ ДВ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49440" y="163440"/>
            <a:ext cx="440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Метод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6880" y="816120"/>
            <a:ext cx="865512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Коэффициент степени развитости ядра ДПБ ДВЭС (коэффициент полноты корневой матрицы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N/n×m</a:t>
            </a:r>
            <a:r>
              <a:rPr b="0" lang="en-GB" sz="1800" spc="-1" strike="noStrike" baseline="-42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                                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де N – количество ненулевых элементов корневой матрицы ДПБ ДВ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редполагается, что при долговременном и всеохватывающем развитии  ДПБ ДВЭС произвольной страны с некоторой группой стран этот коэффициент стремится к един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19280" y="228600"/>
            <a:ext cx="450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Метод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0360" y="900000"/>
            <a:ext cx="828036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 Классификационные шкалы для степени развитости ядра ДПБ ДВЭС. В связи с тем, что коэффициент k изменяется от нуля до единицы, может быть построена пятиуровневая классификационная шкала для типизации стран по степени развитости ядра договорно-правовой базы двустороннего внешнеэкономического сотрудничества [1]. Пример такой пятиуровневой шкалы приведен в таблице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Таблица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иуровневая классификационная шкала для степени развитости ядра ДПБ ДВ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00200" y="1752480"/>
          <a:ext cx="678168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781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9120" y="163440"/>
            <a:ext cx="489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тод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836640"/>
            <a:ext cx="84250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ложенный методологический инструментарий можно также назвать бенчмаркинговой процедурой для мониторинга и оценки развития ДПБ ДВЭС произвольной страны с некоторой группой стран, которая может с успехом использоваться в практической деятельности внешнеторговых ведомств любых стран. Основной целью в этом бенчмаркинге является достижение максимальной полноты для корневой матрицы (lim k(t)=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800" spc="-1" strike="noStrike" baseline="49000">
                <a:solidFill>
                  <a:srgbClr val="000000"/>
                </a:solidFill>
                <a:latin typeface="Times New Roman"/>
              </a:rPr>
              <a:t>t→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основе баз данных по международным договорам, размещенных на сайтах Верховного Совета Украины</a:t>
            </a:r>
            <a:r>
              <a:rPr b="0" lang="en-US" sz="1800" spc="-1" strike="noStrike" baseline="29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Интернет-версии правовой системы “Консультант плюс”</a:t>
            </a:r>
            <a:r>
              <a:rPr b="0" lang="en-US" sz="1800" spc="-1" strike="noStrike" baseline="29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и  Правительства Белоруссии</a:t>
            </a:r>
            <a:r>
              <a:rPr b="0" lang="en-US" sz="1800" spc="-1" strike="noStrike" baseline="29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были построены матрицы развития ДПБ ДВЭС Украины, России и Белоруссии со странами MENA вплоть до 2006 г. включительно. В этих матрицах первые пять типов договоров отнесены нами к базов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Таблица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атрица развития ДПБ ДВЭС России со странами MENA на конец 2006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990720"/>
          <a:ext cx="86868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057400" y="152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чания к табл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914400"/>
          <a:ext cx="8610480" cy="379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1048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7-11-02T12:34:34Z</dcterms:modified>
  <cp:revision>1</cp:revision>
  <dc:subject/>
  <dc:title>Заголовок слайда отсутствует</dc:title>
</cp:coreProperties>
</file>