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3973-6A5C-4335-A6E1-8F291B3C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99AD-A927-4DDF-8162-756FA13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29A9-63D3-45F5-A09D-0B453AC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6515-1361-4522-81C0-A65DB826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457-2ABB-4723-9A0F-CA8BEE90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8F15-1F67-4683-9CD4-7B09C65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500D-490A-4CFD-A39E-77E1E95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36AE-8B83-4F5A-BB89-5ED6ED4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FD5-FC93-448C-983F-039D8103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059-AAA8-4CF4-B6F8-34D1D97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E8C5-282B-4768-91BD-080A80F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D980-49A4-4EC3-91F5-2F31663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7695-5FDE-4A83-A7FF-EC5EF8E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ADCF-8FA2-45FD-B008-2804424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2185-576E-4A05-90FA-64044CDA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891-BEBF-46A1-BE01-382670F0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70BE-3FB4-4B8B-9370-9523DAB2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635F-F7CF-4E6A-A8D8-A6EFB99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3996-6B94-48E3-BF94-46680E6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8268-7CCC-485F-BECF-EDBC45D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777E-82B0-41DB-9823-90674291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3CC2-80D9-4572-8C80-04E29EF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481B-291A-4195-84BB-CC9BE018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4F73-EC2A-4723-88A4-D3848D9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BA6-605F-484E-BD47-7990A4711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929-58FC-4BE1-96A0-75704133F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548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одология вебометрического ранжирования университе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истемы рейтинговой оценки университет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85920"/>
            <a:ext cx="87854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мире существует много систем рейтингового оценивания университетской деятельности как на стартовом, так и на глобальном уровне. Они основыв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фактических данных статистических обследований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d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экспертных оценках и опросах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vey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основе смешанных процед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 не существует идеальных рейтинговых систем оценки университетской деятельности, которые бы устраивали все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тестное движение в отношении рейтингового оценивания университетской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470960"/>
            <a:ext cx="87854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2007 году группа американских колледжей объявила бойкот самым влиятельным процедурам университетского ранжирования в США, так как  многие эксперты уверены, что они основаны на сомнительной методологии и фальшивых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и также убеждены, что все общеизвестные в мире процедуры такого ранжирования в некоторой степени ущербны, причем на фундаментальн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м. статью Д.Батлера, в журнале «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ature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» от 31 мая 2007 г. «Ученые наносят удар фальшивому ранжированию».  (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ww.nature.com/nature/journal/v447/n7144/full/447514b.html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чины ущербности основных мировых рейтингов университе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745560"/>
            <a:ext cx="878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йтинги US News &amp; World Report и British Times Higher Education Supplement (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ES) сильно зависят от опросов тысячи экспертов, что во многом приводит к спорным результат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тайская процедура академического ранжирования основана на более объективных количественных данных (цитирование, публикации в журналах «Nature” и  “Science”, количество лауреатов Нобелевской премии), но база данных по цитированию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дна для таких целей, так как названия университетов произносятся по разному от статьи к статье, а университетские филиалы часто совершенно упуще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иски альтернативных процедур ранжирования университе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823680"/>
            <a:ext cx="87854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сследователи Лейденского университета предложили «весовое» цитирование, в результате которого университет, работающий в высокоцитируемой области исследований, не получает искусственно завышенных оценок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 альтернативу существующим системам ранжирования университетов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erman Center for Higher Education Development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редложил свои рейтинги для почти 300 центрально-европейских университе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US Commission on the Future of Higher Education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ассматривает вопрос создания процедуры, альтернативной рейтингу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US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ws &amp; World Report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ебометрическая процедура ранжирования университетов мира (Испа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50984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Общие данны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ана испанской киберметрической лабораторией Центра научной информации и документации Испанского национального исследовательского совет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www.webometrics.inf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ный директор лаборатории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idro F.Aguillo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пущена в 2004 го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хватывает более 5 000 университетов мира, включая около 450 российск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четы проводятся 2 раза в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32880"/>
            <a:ext cx="878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нжирование и классификация университ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мулирование университетских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убликаций, включая первичные данные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w data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, обучающие материалы, мультимедийные ресурсы и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здействие на университетскую политик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ставание вебометрического рейтинга от традиционного (или ожидаемого положения, согласно сформировавшемуся академическому имиджу университета) является сигналом руководству университета для пересмотра свое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поли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ебометрическая процедура ранжирования университетов ми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901440"/>
            <a:ext cx="87854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Методология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змеряются следующие показател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страниц, полученных от поисковых машин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ogle, Yahoo, Live Search, Exalead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(«Size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уникальных внешних ссылок, полученных с помощью трех последних машин («Visibility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файлов определенных типов (pdf, ps, doc и ppt), полученных с помощью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ogle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(«Rich Files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оличество академических документов и их цитируемость, получаемые с помощью Google Scholar («Scholar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 этим показателям применяются процедуры лог-нормирования и взвешивания с целью получения интегрального показател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Garamond"/>
              </a:rPr>
              <a:t>Web-</a:t>
            </a:r>
            <a:r>
              <a:rPr b="1" lang="ru-RU" sz="3700" spc="-1" strike="noStrike">
                <a:solidFill>
                  <a:srgbClr val="e5e5ff"/>
                </a:solidFill>
                <a:latin typeface="Garamond"/>
              </a:rPr>
              <a:t>рейтинги российских университетов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831960"/>
          <a:ext cx="8074080" cy="5897520"/>
        </p:xfrm>
        <a:graphic>
          <a:graphicData uri="http://schemas.openxmlformats.org/drawingml/2006/table">
            <a:tbl>
              <a:tblPr/>
              <a:tblGrid>
                <a:gridCol w="1033560"/>
                <a:gridCol w="842760"/>
                <a:gridCol w="943200"/>
                <a:gridCol w="1001520"/>
                <a:gridCol w="843120"/>
                <a:gridCol w="1487520"/>
                <a:gridCol w="1006200"/>
                <a:gridCol w="9162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 2007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юль 2007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й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ейтинг,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о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б-рейтин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Ф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Ф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БГУ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альчи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Оренбур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юм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м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У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ж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ижний Новгород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ш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Оренбур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ГУ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dept</cp:lastModifiedBy>
  <dcterms:modified xsi:type="dcterms:W3CDTF">2008-01-17T09:53:31Z</dcterms:modified>
  <cp:revision>55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