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6622-C4E9-4D7F-A69C-84A3A674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1E97-4F08-4B55-9E87-33978E5C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3245-3613-4B3D-A414-FC7E739D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55AD-7E04-4616-A433-93E8D8F0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B4DA-FF67-4CC6-90C4-3F9B2FFF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478B-CD5D-4575-86FF-C2E1BDB9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FC01-C37C-4270-B077-D1EB57E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23F9-116E-4865-B180-00815A0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51DC-7DCD-42F5-9C0C-DC58B8C4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D097-B567-43B9-B704-B933097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E907-A097-4D64-BD36-92A2EAB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4FAE-7EB4-4800-BAF0-9DABF2F4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46A0-5F33-47D7-9A70-7D0FAB61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5159-BCA6-4922-BAF5-19D75CC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D800-4F23-4EA6-ABBE-48D881B2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B6FC-AFE8-4338-B65C-B8A845DA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711B-6F1C-4412-8A35-CAFF2C25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2ADB-DCF0-4040-BB7A-4BDEB63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016B-9ABA-48CD-B523-E3D8ADB0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6D63-7AC8-4778-832C-8215DDD8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8306-DDFB-4401-A36E-65F471D0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992A-AC53-493B-85FB-FEB34500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3002-344B-4EED-B0C6-F3E7EF10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9189-7A71-420B-B2BB-9A3F6943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FA85-CBBD-4405-9744-2035A3B327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4443-2DE5-4383-85B8-C567B07889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e5e5ff"/>
                </a:solidFill>
                <a:latin typeface="Garamond"/>
              </a:rPr>
              <a:t>Концепция </a:t>
            </a:r>
            <a:br>
              <a:rPr sz="5000"/>
            </a:br>
            <a:r>
              <a:rPr b="1" lang="en" sz="5000" spc="-1" strike="noStrike">
                <a:solidFill>
                  <a:srgbClr val="e5e5ff"/>
                </a:solidFill>
                <a:latin typeface="Garamond"/>
              </a:rPr>
              <a:t>«</a:t>
            </a:r>
            <a:r>
              <a:rPr b="1" lang="ru-RU" sz="5000" spc="-1" strike="noStrike">
                <a:solidFill>
                  <a:srgbClr val="e5e5ff"/>
                </a:solidFill>
                <a:latin typeface="Garamond"/>
              </a:rPr>
              <a:t>Российской интерактивной инновационной платформы»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7636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сковкин Владимир Михайлович, д.г.н., проф. кафедры мировой экономики БелГУ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рымский Илья Александрович, аспирант кафедры мировой экономики БелГ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-18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Деятельность группы трансфера технологий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16856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трансфера технологий собирает, через службу регистрации, информацию по спросу и предложению технологий, размещает её на электронной бирже технологий и заключает договора по трансферу технологий с заказчик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Сквозные разделы портала»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383840"/>
            <a:ext cx="87854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разделе «аналитика» приведены необходимые методологические и аналитические инструменты (методы расчета и анализа, лежащие в основе построения матрично-аналитических бенчмаркинговых процедур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разделе «публикации» приведены аналитические обзоры, доклады, отчеты, диссертации, статьи по инновационной проблематике, генерируемые самой аналитической группой или специально отобранные е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дел «мероприятия» формируется за счет деятельности службы «новостей» и группы по информационному мониторингу порт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лужбы порт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383840"/>
            <a:ext cx="87854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Предлагается набор стандартных служб, функционирующих почти на всех порталах. Регистрационные процедуры распространяются на тематические разделы портала, показанные под №№3-6 на слайде 7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Внешние поставщики информации регионального уровня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336400"/>
                <a:gridCol w="5892840"/>
              </a:tblGrid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ие поставщики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личные аналитические отделы, службы и центры организаций и объединений реги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ис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ональные управления статис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одате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вые управления и отделы региональных и местных влас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ловая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инновационно-инвестиционная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производственна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ловые ассоциации и союзы, деловые издания и агент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ост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сс-службы региональных и местных властей, деловых ассоциаций и союзов, информационные службы ВУЗов, информационные агентства и С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скуссион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ники форума порт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страцион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и, компании, владельцы авторских прав, регистрирующие свои профили и объекты авторских прав на портал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Дизайн белгородского федерально-регионального онлайнового инновационного портала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920" y="981000"/>
            <a:ext cx="88660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Mutual Learning Platform</a:t>
            </a: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, как прототип Российской интерактивной инновационной платформы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Цель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LP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ганизация интерактивного процесса взаимного обучения в регионах Европы между всеми партнерами, заинтересованными в их инновационном развитии и построении региональных экономик, основанных на знан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Инструменты MLP: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с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минары по обмену знаниями и опытом в обла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гионального прогнозир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я региональных профил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гионального бенчмаркин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оссийская интерактивная инновационная платформа</a:t>
            </a: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(Russian Interactive Innovation Platform, RIIP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22400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Цель «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RIIP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»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Организация интерактивного процесса взаимного обучения в регионах России между всеми партнерами, заинтересованными в инновационном региональном развитии и построении региональных экономик, основанных на знаниях (аналогична цели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LP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Инструменты «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Garamond"/>
              </a:rPr>
              <a:t>RIIP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»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Федерально-региональный онлайновый инновационный портал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еть региональных онлайновых инновационных порталов, построенных на единой методологической основе с сильной аналитической составляющей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учно-методологические и проектные семинары (освоение методолого-аналитического инструментария и презентация успешных примеров его использования в регионах России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оссийская интерактивная инновационная платформа</a:t>
            </a: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(Russian Interactive Innovation Platform, RIIP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22400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Инициаторы «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RIIP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»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ициатива «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IIP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 исходит от крупного федерального классического университета, который проектирует пилотный федерально-региональный онлайновый инновационный портал, и в нее вовлекаются ведущие региональные классические и технические университеты, адаптирующие методологические принципы построения вышеуказанного портала для разработки региональных онлайновых инновационных портал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Партнеры «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RIIP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» на региональном уровн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гиональные и местные власт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гиональные управления статист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гиональные отделения Российского союза промышленников и предпринимателей, крупных всероссийских деловых инновационных ассоциаций и форумов, региональные и местные деловые ассоциации и союз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ганизации региональной инновационной инфраструктуры и провайдеры инновационных и информационно-коммуникационных услуг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еть региональных высших учебных заведений и Н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рупные инновационные компан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онные агентства, пресс-службы, С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Garamond"/>
              </a:rPr>
              <a:t>Организация интерактивного обмена на базе инструментов «RIIP»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2400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процессе создания и поддержки региональных инновационных порталов студенты, аспиранты, преподаватели и ученые ведущих региональных университетов вовлекаются в совместную деятельность с внешними поставщиками информации и обладателями внешней экспертизы (внешних знаний), осваивают инструменты регионального технологического прогнозирования, построения региональных инновационных профилей и инновационного бенчмаркинга, идентифицируют сильные и слабые стороны региона, его подсистем и экономических объектов, анализируют разнообразную региональную информацию и синтезируют из нее новое региональное знание (знание в области региональной диагностики и регионального развития), учатся конструировать, при поддержке внешних партнеров, региональные инновационные кластеры. Апробация этой деятельности происходит на научно-методологических и проектных семинарах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Структурно-логическая схема федерально-регионального онлайнового инновационного портала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858960"/>
            <a:ext cx="91090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Содержание тематических разделов портала регионального уровн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ая политика» - содержит концепции, стратегии и другие программные политические документы по переходу региона на инновационный путь развития, которые должны основываться на региональном инновационном законодательств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ое законодательство» - базовый региональный Закон об инновационном законодательстве и другие региональные законодательные акты, касающиеся инновационной деятельност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Патенты и торговые марки» - региональная база данных по патентам и торговым маркам, создаваемая в рамках программ инвентаризации интеллектуальной собственности и перевода её в нематериальные активы предприятий и организаций накануне вступления России в ВТО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ая статистика» - поставщиком информации в этот раздел являются региональные управления статистик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ая инфраструктура» - содержание раздела формируется за счет отслеживания баз данных национального ИАЦ по мониторингу инновационной инфраструктуры научно-технической деятельности и региональных инновационных систем и Портала информационной поддержки инноваций и бизнеса «Инновации и предпринимательство», а также за счет регистрационной процеду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ые компании» - содержание раздела формируется так же, как и предыдущего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ые проекты и программы» - содержание раздела формируется так же, как и двух предыдущих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«Инновационный бенчмаркинг организаций и компаний» - содержит результаты использования бенчмаркинговой процедуры матрично-аналитического типа для баз данных по организациям инновационной инфраструктуры и инновационным компаниям, дополняется бенчмаркинговыми отчетами и итоговыми материалами семинаров, которые являются неотъемлемыми частями системы инновационного бенчмаркинг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еятельность групп контентной поддержки порт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а инновационно-политической и правовой информации. Собирает и систематизирует информацию для первых трех разделов регионального уровня порт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а институциональной  информации. Собирает и систематизирует информацию для разделов 5-7 регионального уровня порт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а статистической информации. Собирает и систематизирует материалы инновационной статистики, полученные в региональном управлении статис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а информационного мониторинга. Обслуживает тематические разделы портала федерального уровн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5e5ff"/>
                </a:solidFill>
                <a:latin typeface="Garamond"/>
              </a:rPr>
              <a:t>Деятельность аналитической группы</a:t>
            </a: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808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Аналитическая группа является мозговым центром всего портала.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На основе баз данных, построенных в разделах «инновационная инфраструктура» и «инновационные компании» и с использованием статистических данных, собранных в разделах «патенты и торговые марки», «инновационная статистика», аналитическая группа портала разрабатывает комплекс частных и интегральных показателей инновационной активности объектов инновационной деятельности (организации инновационной инфраструктуры, инновационные компании), строит их инновационные профили и запускает для них матрично-аналитические процедуры институционального инновационного бенчмаркинга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Для федерального уровня портала аналитическая группа разрабатывает и запускает бенчмаркинговые матрично-аналитические инструменты федерального уровня: матрично-аналитическая процедура бенчмаркинга региональной инновационной инфраструктуры, российское региональное инновационной табло и др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Аналитическая группа обслуживает «сквозные» разделы портала – «аналитика», «публикации»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9:57:58Z</dcterms:created>
  <dc:creator>dept</dc:creator>
  <dc:description/>
  <dc:language>en-US</dc:language>
  <cp:lastModifiedBy>Beholder</cp:lastModifiedBy>
  <dcterms:modified xsi:type="dcterms:W3CDTF">2008-01-17T11:06:43Z</dcterms:modified>
  <cp:revision>70</cp:revision>
  <dc:subject/>
  <dc:title>Матрично-аналитическая процедура регионального бенчмаркинга инновационной инфраструктуры Российской Федерации </dc:title>
</cp:coreProperties>
</file>