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73501-9F6B-4C87-AEFB-9036F13D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BA8DC-2AE5-459F-9242-4B199840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24946-EE45-4412-96AC-00AED0E9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6442E-FB5F-4941-A815-4D959C32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8D8A-AC81-4CAC-917D-9E0518EE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F635-87A5-4F1E-BE85-F52A8F52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4C7F-EC2A-4C39-B134-10D04FF5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D2A6-A4D3-4254-8166-EEE4CA71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8441-3629-4082-B943-CD32CDC3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E8C5-1FE5-4823-B45D-A78B7DD5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E2EB-1239-4DE0-9001-CB633957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9795-6298-4A75-AC43-033A104C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A145-9435-4A38-9472-937A90BC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A544-D9E1-453F-8E3C-8D125938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A456-F2EC-4BB0-A0D3-B8203BAA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E7A6-BE9F-4AC1-B45B-3817D77A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2665-57E4-4E7D-9E49-425F7763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ED393-4577-4539-BA6A-55A81D5F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DD6BA-78DD-441C-A4B3-9FBC9C18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22830-CCF3-4FA2-9232-9690398A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FE8E0-B730-4372-BDDC-34708C60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26296-7257-4D3C-927E-555FF25F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E490C-F280-498C-96E0-96138624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05BCE-F3BD-4B6E-BEDB-17A278AB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ACB5-9704-46B4-A7B2-F9D1D9D99C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BAA3-F177-43FF-B5D2-9F9D15CE37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Arial"/>
              </a:rPr>
              <a:t>Матрично-аналитическая процедура регионального бенчмаркинга инновационной инфраструктуры Российской Федерации</a:t>
            </a: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76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сковкин Владимир Михайлович, д.г.н., проф. кафедры мировой экономики БелГУ;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рымский Илья Александрович, аспирант кафедры мировой экономики БелГ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ве матрицы для российских организаций инновационной инфраструктуры, построенные на базах данных Национального информационно-аналитического центра по мониторингу инновационной инфраструктуры научно-технической деятельности и региональных инновационных систем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[1]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и Портала информационной поддержки инноваций и бизнеса «Инновации и предпринимательство»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[2]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имеют вид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ij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, где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ij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количество организаций инновационной инфраструктуры для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й группы (типа) и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го субъекта РФ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количество групп (типов) инновационной инфраструктуры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количество субъектов РФ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[1]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miiris.r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[2]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innovbusiness.r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5e5ff"/>
                </a:solidFill>
                <a:latin typeface="Garamond"/>
              </a:rPr>
              <a:t>Таблица 1. Матрица российской инновационной инфраструктуры, составленная на основе базы данных Национального информационно-аналитического центра по мониторингу инновационной инфраструктуры</a:t>
            </a:r>
            <a:r>
              <a:rPr b="1" lang="en-US" sz="1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e5e5ff"/>
                </a:solidFill>
                <a:latin typeface="Garamond"/>
              </a:rPr>
              <a:t>научно-технической деятельности и региональных инновационных систем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5660280"/>
            <a:ext cx="629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  <a:ea typeface="Times New Roman"/>
              </a:rPr>
              <a:t>ОКИД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- органы координации инновационной дея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ИТЦ, ЦТТ – информационно-технологические центры, центры трансфера технолог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ЦНТИ - центры научно-технической информ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ТП, БИ - технопарки, бизнес-инкуба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ФК, ВФ - финансовые компании, венчурные фон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50920" y="907920"/>
          <a:ext cx="8742240" cy="3805200"/>
        </p:xfrm>
        <a:graphic>
          <a:graphicData uri="http://schemas.openxmlformats.org/drawingml/2006/table">
            <a:tbl>
              <a:tblPr/>
              <a:tblGrid>
                <a:gridCol w="298440"/>
                <a:gridCol w="782640"/>
                <a:gridCol w="468360"/>
                <a:gridCol w="420480"/>
                <a:gridCol w="465120"/>
                <a:gridCol w="355680"/>
                <a:gridCol w="361800"/>
                <a:gridCol w="454320"/>
                <a:gridCol w="468000"/>
                <a:gridCol w="420840"/>
                <a:gridCol w="465120"/>
                <a:gridCol w="355680"/>
                <a:gridCol w="361800"/>
                <a:gridCol w="471600"/>
                <a:gridCol w="468360"/>
                <a:gridCol w="420480"/>
                <a:gridCol w="465120"/>
                <a:gridCol w="389160"/>
                <a:gridCol w="361800"/>
                <a:gridCol w="487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юнь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ентябрь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азниц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егио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КИ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ТЦ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ЦТ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ЦНТ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П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К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КИ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ТЦ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ЦТ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ЦНТ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П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К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КИ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ТЦ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ЦТ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ЦНТ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П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К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лтайский кра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мурская област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рхангельская област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страханская област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елгородская област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---------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Чувашская Республик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Ямало-Ненецкий А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Ярославская област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8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3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8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e5ff"/>
                </a:solidFill>
                <a:latin typeface="Garamond"/>
              </a:rPr>
              <a:t>Таблица 2. Матрица российской инновационной инфраструктуры, составленная на основе базы данных Портала информационной поддержки инноваций и бизнеса «Инновации и предпринимательство»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9280" y="907920"/>
          <a:ext cx="8640720" cy="4545000"/>
        </p:xfrm>
        <a:graphic>
          <a:graphicData uri="http://schemas.openxmlformats.org/drawingml/2006/table">
            <a:tbl>
              <a:tblPr/>
              <a:tblGrid>
                <a:gridCol w="343080"/>
                <a:gridCol w="1385640"/>
                <a:gridCol w="403560"/>
                <a:gridCol w="403200"/>
                <a:gridCol w="326880"/>
                <a:gridCol w="355680"/>
                <a:gridCol w="341280"/>
                <a:gridCol w="473040"/>
                <a:gridCol w="403200"/>
                <a:gridCol w="403200"/>
                <a:gridCol w="327240"/>
                <a:gridCol w="355320"/>
                <a:gridCol w="341280"/>
                <a:gridCol w="474840"/>
                <a:gridCol w="403200"/>
                <a:gridCol w="403200"/>
                <a:gridCol w="326880"/>
                <a:gridCol w="333360"/>
                <a:gridCol w="341640"/>
                <a:gridCol w="495000"/>
              </a:tblGrid>
              <a:tr h="342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ионы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юнь 200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нтябрь 200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ниц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Т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Т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Т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гинский Бурятский автономный окру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тайский кра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мурская област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хангельская област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траханская област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лгородская област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­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увашская Республ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рославская област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39640" y="5730120"/>
            <a:ext cx="4810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ПТГ - Производственно-технологическая 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ЭКГ - Экспертно-консалтинговая 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КГ - Кадровая группа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ИГ - Информационная 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ФГ - Финансовая групп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392760" y="404640"/>
            <a:ext cx="1030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аспределение организаций инновационной инфраструктуры по их тип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а основе базы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данных Национального информационно-аналитического цент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 мониторингу инновационной инфраструктуры научно-технической деятель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 региональных инновационных систем, июнь 200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596880"/>
          <a:ext cx="8785440" cy="605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96880"/>
                    <a:ext cx="878544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39640" y="5730120"/>
            <a:ext cx="4810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ПТГ - Производственно-технологическая 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ЭКГ - Экспертно-консалтинговая 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КГ - Кадровая группа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ИГ - Информационная 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ФГ - Финансовая групп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11280" y="40464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аспределение организаций инновационной инфраструктуры по их тип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а основе базы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данных Портала информационной поддержки инноваци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бизнеса «Инновации и предпринимательство», июнь 200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152280"/>
          <a:ext cx="9325080" cy="642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932508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80880" y="5660280"/>
            <a:ext cx="629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  <a:ea typeface="Times New Roman"/>
              </a:rPr>
              <a:t>ОКИД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- органы координации инновационной дея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ИТЦ, ЦТТ – информационно-технологические центры, центры трансфера технолог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ЦНТИ - центры научно-технической информ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ТП, БИ - технопарки, бизнес-инкуба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ФК, ВФ - финансовые компании, венчурные фон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392760" y="404640"/>
            <a:ext cx="1030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аспределение организаций инновационной инфраструктуры по их тип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а основе базы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данных Национального информационно-аналитического цент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 мониторингу инновационной инфраструктуры научно-технической деятель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 региональных инновационных систем, сентябрь 200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455760"/>
            <a:ext cx="8893080" cy="6314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9640" y="5730120"/>
            <a:ext cx="4810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ПТГ - Производственно-технологическая 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ЭКГ - Экспертно-консалтинговая 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КГ - Кадровая группа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ИГ - Информационная 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ФГ - Финансовая групп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11280" y="40464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аспределение организаций инновационной инфраструктуры по их тип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а основе базы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данных Портала информационной поддержки инноваци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бизнеса «Инновации и предпринимательство», сентябрь 200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92160"/>
          <a:ext cx="8964720" cy="619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2160"/>
                    <a:ext cx="8964720" cy="61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80880" y="5660280"/>
            <a:ext cx="629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  <a:ea typeface="Times New Roman"/>
              </a:rPr>
              <a:t>ОКИД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- органы координации инновационной дея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ИТЦ, ЦТТ – информационно-технологические центры, центры трансфера технолог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ЦНТИ - центры научно-технической информ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ТП, БИ - технопарки, бизнес-инкуба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ФК, ВФ - финансовые компании, венчурные фон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дальнейшем планируется трансформировать построенные матрицы в электронный вид таким образом, чтобы с помощью гиперссылок можно было бы переходить к стандартизированному описанию организаций инновационной инфраструктур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сле этого будет целесообразно передать эту бенчмаркинговую процедуру матрично-аналитического типа для эксплуатации владельцам вышеуказанных баз данных (слайд 2) или Национальной ассоциации по инновациям и развитию информационных технологий (НАИРИТ), которая планирует проводить независимый мониторинг инновационной активности субъектов Российской Федерации. С другой стороны Федеральное агентство по научным исследованиям и инновациям могло бы гораздо быстрее сформировать максимально полную базу данных по организациям инновационной инфраструктуры и воспользоваться вышеуказанной бенчмаркинговой процедурой для её мониторинга, а также принятия решений в области стимулирования её развити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нализ предыдущих слайдов показывает, что наиболее активно инновационная инфраструктура развивается в столичных и крупных регионах и для организаций производственно-технологической группы (технопарки, бизнес-инкубаторы и др.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9:57:58Z</dcterms:created>
  <dc:creator>dept</dc:creator>
  <dc:description/>
  <dc:language>en-US</dc:language>
  <cp:lastModifiedBy>dept</cp:lastModifiedBy>
  <dcterms:modified xsi:type="dcterms:W3CDTF">2007-12-03T14:55:38Z</dcterms:modified>
  <cp:revision>12</cp:revision>
  <dc:subject/>
  <dc:title>Матрично-аналитическая процедура регионального бенчмаркинга инновационной инфраструктуры Российской Федерации </dc:title>
</cp:coreProperties>
</file>